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17DD-25D1-4BA1-8191-85365A9A7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40A4-2F29-49E3-AA8A-03D22594B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82F-8006-465F-B9C4-B9BA4DF2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70F-3270-4C60-AA88-3ADFE724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79F-FBB6-4CFC-B057-AA2FF850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B3E-49B5-4C9F-8167-005761F9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92B-0594-4D89-BAD7-ADA8F60E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E44-6E25-4808-B0EA-496B621E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8FB-B46A-43A4-9FE5-87745FAA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ADA-8DC9-4F59-85FD-1ED43C12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393-476D-4C14-B645-02DF5963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2C05-65A2-4DF5-84BA-39950C66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10C-C018-4E8C-930E-06CB1B36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92F1-6BBA-425D-BB28-5D814804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360F-CC86-4EEE-9F73-F22BBEB79F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>
            <a:hlinkClick r:id="rId1" action="ppaction://hlinksldjump"/>
          </p:cNvPr>
          <p:cNvSpPr/>
          <p:nvPr/>
        </p:nvSpPr>
        <p:spPr>
          <a:xfrm>
            <a:off x="10163160" y="6066000"/>
            <a:ext cx="504720" cy="792000"/>
          </a:xfrm>
          <a:custGeom>
            <a:avLst/>
            <a:gdLst>
              <a:gd name="textAreaLeft" fmla="*/ 208080 w 504720"/>
              <a:gd name="textAreaRight" fmla="*/ 296640 w 50472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WordArt 3" descr="纸袋"/>
          <p:cNvPicPr/>
          <p:nvPr/>
        </p:nvPicPr>
        <p:blipFill>
          <a:blip r:embed="rId2"/>
          <a:stretch/>
        </p:blipFill>
        <p:spPr>
          <a:xfrm>
            <a:off x="2444760" y="944640"/>
            <a:ext cx="7491240" cy="2359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919160" y="404640"/>
            <a:ext cx="84582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：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实数，且满足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求出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3359160" y="1125360"/>
                <a:ext cx="45068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Text Box 4"/>
          <p:cNvSpPr/>
          <p:nvPr/>
        </p:nvSpPr>
        <p:spPr>
          <a:xfrm>
            <a:off x="3159000" y="427032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232240" y="2637000"/>
            <a:ext cx="17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b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-1≥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15952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1-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b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≥0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5016600" y="2789280"/>
            <a:ext cx="252360" cy="990720"/>
          </a:xfrm>
          <a:custGeom>
            <a:avLst/>
            <a:gdLst>
              <a:gd name="textAreaLeft" fmla="*/ 161280 w 252360"/>
              <a:gd name="textAreaRight" fmla="*/ 252720 w 2523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306"/>
                </a:lnTo>
                <a:cubicBezTo>
                  <a:pt x="10800" y="12206"/>
                  <a:pt x="5400" y="13106"/>
                  <a:pt x="0" y="13106"/>
                </a:cubicBezTo>
                <a:cubicBezTo>
                  <a:pt x="5400" y="13106"/>
                  <a:pt x="10800" y="14006"/>
                  <a:pt x="10800" y="1490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3432240" y="4076640"/>
            <a:ext cx="304560" cy="1089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8080 h 1089000"/>
              <a:gd name="textAreaBottom" fmla="*/ 1060920 h 108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306"/>
                </a:lnTo>
                <a:cubicBezTo>
                  <a:pt x="10800" y="12206"/>
                  <a:pt x="5400" y="13106"/>
                  <a:pt x="0" y="13106"/>
                </a:cubicBezTo>
                <a:cubicBezTo>
                  <a:pt x="5400" y="13106"/>
                  <a:pt x="10800" y="14006"/>
                  <a:pt x="10800" y="1490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797640" y="4581360"/>
            <a:ext cx="8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b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≤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3792600" y="38606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b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≥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2855880" y="5300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∴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b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=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919160" y="270828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解：由题意得                  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2855880" y="4221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∴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2855880" y="5877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∴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a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=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5"/>
          <p:cNvGrpSpPr/>
          <p:nvPr/>
        </p:nvGrpSpPr>
        <p:grpSpPr>
          <a:xfrm>
            <a:off x="3432240" y="0"/>
            <a:ext cx="3581280" cy="685800"/>
            <a:chOff x="3432240" y="0"/>
            <a:chExt cx="3581280" cy="685800"/>
          </a:xfrm>
        </p:grpSpPr>
        <p:sp>
          <p:nvSpPr>
            <p:cNvPr id="162" name="Rectangle 16"/>
            <p:cNvSpPr/>
            <p:nvPr/>
          </p:nvSpPr>
          <p:spPr>
            <a:xfrm>
              <a:off x="3432240" y="475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拓展训练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7"/>
            <p:cNvSpPr/>
            <p:nvPr/>
          </p:nvSpPr>
          <p:spPr>
            <a:xfrm>
              <a:off x="5413320" y="38160"/>
              <a:ext cx="290520" cy="461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8" descr="678"/>
            <p:cNvPicPr/>
            <p:nvPr/>
          </p:nvPicPr>
          <p:blipFill>
            <a:blip r:embed="rId1"/>
            <a:stretch/>
          </p:blipFill>
          <p:spPr>
            <a:xfrm>
              <a:off x="5794200" y="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9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3432240" y="1522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2063880" y="692280"/>
            <a:ext cx="374328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梳理一下吧</a:t>
            </a:r>
            <a:endParaRPr b="1" lang="en-US" sz="6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63880" y="1989000"/>
            <a:ext cx="680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）二次根式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）根号内字母的取值范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哪些式子对字母有条件限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分母；根号；实际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0004"/>
          <p:cNvPicPr/>
          <p:nvPr/>
        </p:nvPicPr>
        <p:blipFill>
          <a:blip r:embed="rId1"/>
          <a:stretch/>
        </p:blipFill>
        <p:spPr>
          <a:xfrm>
            <a:off x="1774800" y="1773360"/>
            <a:ext cx="2195640" cy="36576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71520" y="1628640"/>
            <a:ext cx="4978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Calibri"/>
              </a:rPr>
              <a:t>作业</a:t>
            </a:r>
            <a:r>
              <a:rPr b="1" lang="en-US" sz="4400" spc="-1" strike="noStrike">
                <a:solidFill>
                  <a:srgbClr val="cc3300"/>
                </a:solidFill>
                <a:latin typeface="Calibri"/>
              </a:rPr>
              <a:t>P.5</a:t>
            </a:r>
            <a:r>
              <a:rPr b="1" lang="zh-CN" sz="4400" spc="-1" strike="noStrike">
                <a:solidFill>
                  <a:srgbClr val="cc3300"/>
                </a:solidFill>
                <a:latin typeface="Calibri"/>
              </a:rPr>
              <a:t>的第</a:t>
            </a:r>
            <a:r>
              <a:rPr b="1" lang="en-US" sz="4400" spc="-1" strike="noStrike">
                <a:solidFill>
                  <a:srgbClr val="cc3300"/>
                </a:solidFill>
                <a:latin typeface="Calibri"/>
              </a:rPr>
              <a:t>1</a:t>
            </a:r>
            <a:r>
              <a:rPr b="1" lang="zh-CN" sz="4400" spc="-1" strike="noStrike">
                <a:solidFill>
                  <a:srgbClr val="cc3300"/>
                </a:solidFill>
                <a:latin typeface="Calibri"/>
              </a:rPr>
              <a:t>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275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Calibri Light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208240" y="1268280"/>
            <a:ext cx="7489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理解二次根式的定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掌握二次根式在实数范围内有意义的条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 Light"/>
              </a:rPr>
              <a:t>自学指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认真看课本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-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页的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解决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页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思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中的问题，结合平方根和算术平方根来理解二次根式的定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认真看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掌握二次根式在什么情况下有意义，注意分析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下面的</a:t>
            </a:r>
            <a:r>
              <a:rPr b="1" lang="zh-CN" sz="2800" spc="-1" strike="noStrike">
                <a:solidFill>
                  <a:srgbClr val="b80000"/>
                </a:solidFill>
                <a:latin typeface="Calibri"/>
              </a:rPr>
              <a:t>思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自己完成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页的练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钟完成上述指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63720" y="458136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360600" y="779400"/>
            <a:ext cx="184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919160" y="2205000"/>
            <a:ext cx="38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7"/>
              <p:cNvSpPr txBox="1"/>
              <p:nvPr/>
            </p:nvSpPr>
            <p:spPr>
              <a:xfrm>
                <a:off x="2351160" y="2565360"/>
                <a:ext cx="80643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形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sSub>
                      <m:e/>
                      <m:sub/>
                    </m:sSub>
                    <m:sSub>
                      <m:e/>
                      <m:sub/>
                    </m:sSub>
                    <m:sSub>
                      <m:e/>
                      <m:sub/>
                    </m:sSub>
                    <m:r>
                      <m:rPr>
                        <m:lit/>
                        <m:nor/>
                      </m:rPr>
                      <m:t xml:space="preserve">的式子叫做二次根式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 Box 19"/>
          <p:cNvSpPr/>
          <p:nvPr/>
        </p:nvSpPr>
        <p:spPr>
          <a:xfrm>
            <a:off x="2351160" y="3716280"/>
            <a:ext cx="331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叫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被开方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5951520" y="558972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22"/>
              <p:cNvSpPr txBox="1"/>
              <p:nvPr/>
            </p:nvSpPr>
            <p:spPr>
              <a:xfrm>
                <a:off x="5016600" y="3645000"/>
                <a:ext cx="1152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61" name="Text Box 23"/>
          <p:cNvSpPr/>
          <p:nvPr/>
        </p:nvSpPr>
        <p:spPr>
          <a:xfrm>
            <a:off x="6240600" y="3716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1919"/>
                </a:solidFill>
                <a:latin typeface="Arial"/>
              </a:rPr>
              <a:t>称为二次根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0"/>
          <p:cNvSpPr/>
          <p:nvPr/>
        </p:nvSpPr>
        <p:spPr>
          <a:xfrm>
            <a:off x="2567160" y="105264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师生交流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774800" y="2637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4157640" y="264744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(a≥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2639880" y="692280"/>
          <a:ext cx="73440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692280"/>
                    <a:ext cx="73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3"/>
          <p:cNvSpPr/>
          <p:nvPr/>
        </p:nvSpPr>
        <p:spPr>
          <a:xfrm>
            <a:off x="2515320" y="2614680"/>
            <a:ext cx="45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）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可以是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也可以是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919160" y="34290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）形式上含有二次根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924200" y="4292640"/>
            <a:ext cx="50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a≥0,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≥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3792600" y="4292640"/>
                <a:ext cx="11523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7"/>
              <p:cNvSpPr txBox="1"/>
              <p:nvPr/>
            </p:nvSpPr>
            <p:spPr>
              <a:xfrm>
                <a:off x="7032600" y="3573360"/>
                <a:ext cx="1266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72" name="Text Box 8"/>
          <p:cNvSpPr/>
          <p:nvPr/>
        </p:nvSpPr>
        <p:spPr>
          <a:xfrm>
            <a:off x="3170160" y="5308560"/>
            <a:ext cx="55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）既可指开方运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也可指运算的结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579040" y="1749600"/>
            <a:ext cx="34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）表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算术平方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5951520" y="4292640"/>
            <a:ext cx="47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(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双重非负性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2259720" y="-23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师生交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1992240" y="620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未知"/>
          <p:cNvSpPr/>
          <p:nvPr/>
        </p:nvSpPr>
        <p:spPr>
          <a:xfrm>
            <a:off x="3143160" y="981000"/>
            <a:ext cx="5040360" cy="37008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5b9bd5"/>
            </a:solidFill>
            <a:round/>
          </a:ln>
          <a:effectLst>
            <a:outerShdw dist="153753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038480" y="907920"/>
            <a:ext cx="66294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说一说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971800" y="205740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下列各式是二次根式吗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1997640" y="838080"/>
            <a:ext cx="2028240" cy="1616040"/>
            <a:chOff x="1997640" y="838080"/>
            <a:chExt cx="2028240" cy="1616040"/>
          </a:xfrm>
        </p:grpSpPr>
        <p:sp>
          <p:nvSpPr>
            <p:cNvPr id="81" name="未知"/>
            <p:cNvSpPr/>
            <p:nvPr/>
          </p:nvSpPr>
          <p:spPr>
            <a:xfrm>
              <a:off x="2711520" y="838080"/>
              <a:ext cx="1314360" cy="3697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ed7d31"/>
                </a:gs>
                <a:gs pos="50000">
                  <a:srgbClr val="cc3300"/>
                </a:gs>
                <a:gs pos="100000">
                  <a:srgbClr val="ed7d31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 rot="961200">
              <a:off x="2282760" y="1021680"/>
              <a:ext cx="657000" cy="37008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563c1"/>
                </a:gs>
                <a:gs pos="50000">
                  <a:srgbClr val="ffcc66"/>
                </a:gs>
                <a:gs pos="100000">
                  <a:srgbClr val="0563c1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2173320" y="1536480"/>
              <a:ext cx="876240" cy="36972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563c1"/>
                </a:gs>
                <a:gs pos="50000">
                  <a:srgbClr val="ff9900"/>
                </a:gs>
                <a:gs pos="100000">
                  <a:srgbClr val="0563c1"/>
                </a:gs>
              </a:gsLst>
              <a:lin ang="2700000"/>
            </a:gradFill>
            <a:ln w="19080">
              <a:solidFill>
                <a:srgbClr val="ed7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 rot="1629000">
              <a:off x="2063520" y="2028240"/>
              <a:ext cx="334800" cy="3697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0"/>
          <p:cNvGrpSpPr/>
          <p:nvPr/>
        </p:nvGrpSpPr>
        <p:grpSpPr>
          <a:xfrm>
            <a:off x="2271960" y="473040"/>
            <a:ext cx="1760040" cy="1072440"/>
            <a:chOff x="2271960" y="473040"/>
            <a:chExt cx="1760040" cy="1072440"/>
          </a:xfrm>
        </p:grpSpPr>
        <p:sp>
          <p:nvSpPr>
            <p:cNvPr id="86" name="未知"/>
            <p:cNvSpPr/>
            <p:nvPr/>
          </p:nvSpPr>
          <p:spPr>
            <a:xfrm rot="158400">
              <a:off x="2279520" y="1145520"/>
              <a:ext cx="1314360" cy="36972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ed7d31"/>
                </a:gs>
              </a:gsLst>
              <a:lin ang="18900000"/>
            </a:gradFill>
            <a:ln w="38160">
              <a:solidFill>
                <a:srgbClr val="ed7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2936880" y="549000"/>
              <a:ext cx="1095120" cy="36936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ed7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3"/>
            <p:cNvSpPr/>
            <p:nvPr/>
          </p:nvSpPr>
          <p:spPr>
            <a:xfrm>
              <a:off x="3357360" y="473040"/>
              <a:ext cx="328680" cy="5187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15"/>
          <p:cNvSpPr/>
          <p:nvPr/>
        </p:nvSpPr>
        <p:spPr>
          <a:xfrm>
            <a:off x="8904240" y="53020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6"/>
              <p:cNvSpPr txBox="1"/>
              <p:nvPr/>
            </p:nvSpPr>
            <p:spPr>
              <a:xfrm>
                <a:off x="2063880" y="2997360"/>
                <a:ext cx="7826400" cy="22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6, 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m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       ，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,   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Rectangle 17"/>
          <p:cNvSpPr/>
          <p:nvPr/>
        </p:nvSpPr>
        <p:spPr>
          <a:xfrm>
            <a:off x="2135160" y="458136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rlett"/>
                <a:ea typeface="Marlett"/>
              </a:rPr>
              <a:t>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2135160" y="378936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rlett"/>
                <a:ea typeface="Marlett"/>
              </a:rPr>
              <a:t>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2135160" y="306864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rlett"/>
                <a:ea typeface="Marlett"/>
              </a:rPr>
              <a:t>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3719520" y="3716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m≤0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7751880" y="3716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x,y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异号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1992240" y="57340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实数范围内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负数没有平方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23"/>
          <p:cNvSpPr txBox="1"/>
          <p:nvPr/>
        </p:nvSpPr>
        <p:spPr>
          <a:xfrm>
            <a:off x="1752480" y="228600"/>
            <a:ext cx="312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火眼金睛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2279520" y="476280"/>
            <a:ext cx="5545080" cy="2081160"/>
            <a:chOff x="2279520" y="476280"/>
            <a:chExt cx="5545080" cy="2081160"/>
          </a:xfrm>
        </p:grpSpPr>
        <p:grpSp>
          <p:nvGrpSpPr>
            <p:cNvPr id="99" name="Group 3"/>
            <p:cNvGrpSpPr/>
            <p:nvPr/>
          </p:nvGrpSpPr>
          <p:grpSpPr>
            <a:xfrm>
              <a:off x="3057840" y="476280"/>
              <a:ext cx="4766760" cy="2081160"/>
              <a:chOff x="3057840" y="476280"/>
              <a:chExt cx="4766760" cy="2081160"/>
            </a:xfrm>
          </p:grpSpPr>
          <p:sp>
            <p:nvSpPr>
              <p:cNvPr id="100" name="AutoShape 4"/>
              <p:cNvSpPr/>
              <p:nvPr/>
            </p:nvSpPr>
            <p:spPr>
              <a:xfrm>
                <a:off x="3057840" y="476280"/>
                <a:ext cx="4766760" cy="2081160"/>
              </a:xfrm>
              <a:prstGeom prst="cloudCallout">
                <a:avLst>
                  <a:gd name="adj1" fmla="val -53009"/>
                  <a:gd name="adj2" fmla="val 68800"/>
                </a:avLst>
              </a:prstGeom>
              <a:solidFill>
                <a:srgbClr val="ffff00"/>
              </a:solidFill>
              <a:ln w="93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Arial"/>
                  </a:rPr>
                  <a:t>           </a:t>
                </a:r>
                <a:r>
                  <a:rPr b="1" lang="zh-CN" sz="3200" spc="-1" strike="noStrike">
                    <a:solidFill>
                      <a:srgbClr val="cc0000"/>
                    </a:solidFill>
                    <a:latin typeface="Arial"/>
                  </a:rPr>
                  <a:t>是不是二次根式</a:t>
                </a:r>
                <a:r>
                  <a:rPr b="1" lang="en-US" sz="3200" spc="-1" strike="noStrike">
                    <a:solidFill>
                      <a:srgbClr val="cc0000"/>
                    </a:solidFill>
                    <a:latin typeface="Arial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01" name="Object 5"/>
              <p:cNvGraphicFramePr/>
              <p:nvPr/>
            </p:nvGraphicFramePr>
            <p:xfrm>
              <a:off x="3485880" y="763560"/>
              <a:ext cx="1762200" cy="585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2" name="Object 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485880" y="763560"/>
                        <a:ext cx="1762200" cy="585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3" name="Text Box 6"/>
            <p:cNvSpPr/>
            <p:nvPr/>
          </p:nvSpPr>
          <p:spPr>
            <a:xfrm>
              <a:off x="2279520" y="615960"/>
              <a:ext cx="148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思考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7"/>
          <p:cNvSpPr/>
          <p:nvPr/>
        </p:nvSpPr>
        <p:spPr>
          <a:xfrm>
            <a:off x="2639880" y="3860640"/>
            <a:ext cx="64072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不是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它是二次根式的代数式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2855880" y="1844640"/>
                <a:ext cx="13683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7032600" y="3213000"/>
                <a:ext cx="1224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2782800" y="3429000"/>
                <a:ext cx="24494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6456240" y="3357720"/>
                <a:ext cx="17528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8400960" y="3357720"/>
                <a:ext cx="17589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9"/>
              <p:cNvSpPr txBox="1"/>
              <p:nvPr/>
            </p:nvSpPr>
            <p:spPr>
              <a:xfrm>
                <a:off x="2711520" y="4508640"/>
                <a:ext cx="187308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1" name="Rectangle 10"/>
          <p:cNvSpPr/>
          <p:nvPr/>
        </p:nvSpPr>
        <p:spPr>
          <a:xfrm>
            <a:off x="2135160" y="12675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判断下列代数式中哪些是二次根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5045760" y="227592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1847880" y="3573000"/>
            <a:ext cx="88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5558040" y="3499920"/>
            <a:ext cx="5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8616960" y="5229360"/>
            <a:ext cx="592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1919160" y="4797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18"/>
          <p:cNvGraphicFramePr/>
          <p:nvPr/>
        </p:nvGraphicFramePr>
        <p:xfrm>
          <a:off x="6240600" y="4724280"/>
          <a:ext cx="37447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0600" y="4724280"/>
                    <a:ext cx="37447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9"/>
          <p:cNvSpPr/>
          <p:nvPr/>
        </p:nvSpPr>
        <p:spPr>
          <a:xfrm>
            <a:off x="5519880" y="49417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0"/>
              <p:cNvSpPr txBox="1"/>
              <p:nvPr/>
            </p:nvSpPr>
            <p:spPr>
              <a:xfrm>
                <a:off x="6600960" y="2133720"/>
                <a:ext cx="15112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1" name="Rectangle 22"/>
          <p:cNvSpPr/>
          <p:nvPr/>
        </p:nvSpPr>
        <p:spPr>
          <a:xfrm>
            <a:off x="1954080" y="213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135160" y="40464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135160" y="40464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检测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4" name="Object 2"/>
              <p:cNvSpPr txBox="1"/>
              <p:nvPr/>
            </p:nvSpPr>
            <p:spPr>
              <a:xfrm>
                <a:off x="2639880" y="2205000"/>
                <a:ext cx="471348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sSub>
                      <m:e/>
                      <m:sub/>
                    </m:sSub>
                    <m:sSub>
                      <m:e/>
                      <m:sub/>
                    </m:sSub>
                    <m:sSub>
                      <m:e/>
                      <m:sub/>
                    </m:sSub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5" name="Text Box 3"/>
          <p:cNvSpPr/>
          <p:nvPr/>
        </p:nvSpPr>
        <p:spPr>
          <a:xfrm>
            <a:off x="1703520" y="98100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何值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二次根式有意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2660760" y="1413000"/>
                <a:ext cx="543060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sSub>
                      <m:e/>
                      <m:sub/>
                    </m:sSub>
                    <m:sSub>
                      <m:e/>
                      <m:sub/>
                    </m:sSub>
                    <m:sSub>
                      <m:e/>
                      <m:sub/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5"/>
              <p:cNvSpPr txBox="1"/>
              <p:nvPr/>
            </p:nvSpPr>
            <p:spPr>
              <a:xfrm>
                <a:off x="4697280" y="1531800"/>
                <a:ext cx="10018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6"/>
              <p:cNvSpPr txBox="1"/>
              <p:nvPr/>
            </p:nvSpPr>
            <p:spPr>
              <a:xfrm>
                <a:off x="8112240" y="1531800"/>
                <a:ext cx="117000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4367160" y="2708280"/>
                <a:ext cx="20066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为全体实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8"/>
              <p:cNvSpPr txBox="1"/>
              <p:nvPr/>
            </p:nvSpPr>
            <p:spPr>
              <a:xfrm>
                <a:off x="7751880" y="2781360"/>
                <a:ext cx="1000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9"/>
              <p:cNvSpPr txBox="1"/>
              <p:nvPr/>
            </p:nvSpPr>
            <p:spPr>
              <a:xfrm>
                <a:off x="2743200" y="3606840"/>
                <a:ext cx="16239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0"/>
              <p:cNvSpPr txBox="1"/>
              <p:nvPr/>
            </p:nvSpPr>
            <p:spPr>
              <a:xfrm>
                <a:off x="4724280" y="3759120"/>
                <a:ext cx="11700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4"/>
              <p:cNvSpPr txBox="1"/>
              <p:nvPr/>
            </p:nvSpPr>
            <p:spPr>
              <a:xfrm>
                <a:off x="6167520" y="3573360"/>
                <a:ext cx="165744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5"/>
              <p:cNvSpPr txBox="1"/>
              <p:nvPr/>
            </p:nvSpPr>
            <p:spPr>
              <a:xfrm>
                <a:off x="8256600" y="3860640"/>
                <a:ext cx="108252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WordArt 40"/>
          <p:cNvSpPr txBox="1"/>
          <p:nvPr/>
        </p:nvSpPr>
        <p:spPr>
          <a:xfrm rot="5400000">
            <a:off x="353520" y="413064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快速口答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36" name="Object 41"/>
          <p:cNvGraphicFramePr/>
          <p:nvPr/>
        </p:nvGraphicFramePr>
        <p:xfrm>
          <a:off x="3432240" y="4505400"/>
          <a:ext cx="2808360" cy="11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2240" y="4505400"/>
                    <a:ext cx="280836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2"/>
          <p:cNvSpPr/>
          <p:nvPr/>
        </p:nvSpPr>
        <p:spPr>
          <a:xfrm>
            <a:off x="2762280" y="47926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2619360" y="5667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44"/>
          <p:cNvGraphicFramePr/>
          <p:nvPr/>
        </p:nvGraphicFramePr>
        <p:xfrm>
          <a:off x="6383160" y="4869000"/>
          <a:ext cx="237492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3160" y="4869000"/>
                    <a:ext cx="237492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45"/>
          <p:cNvGraphicFramePr/>
          <p:nvPr/>
        </p:nvGraphicFramePr>
        <p:xfrm>
          <a:off x="3503520" y="5699160"/>
          <a:ext cx="1224000" cy="115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4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3520" y="5699160"/>
                    <a:ext cx="122400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46"/>
          <p:cNvSpPr/>
          <p:nvPr/>
        </p:nvSpPr>
        <p:spPr>
          <a:xfrm>
            <a:off x="2782800" y="5877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47"/>
          <p:cNvGraphicFramePr/>
          <p:nvPr/>
        </p:nvGraphicFramePr>
        <p:xfrm>
          <a:off x="4943520" y="5950080"/>
          <a:ext cx="1079280" cy="53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43520" y="5950080"/>
                    <a:ext cx="10792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48"/>
          <p:cNvSpPr/>
          <p:nvPr/>
        </p:nvSpPr>
        <p:spPr>
          <a:xfrm>
            <a:off x="1919160" y="260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检测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10:49:27Z</dcterms:created>
  <dc:creator>陆春雷</dc:creator>
  <dc:description/>
  <dc:language>en-US</dc:language>
  <cp:lastModifiedBy>长城中学14</cp:lastModifiedBy>
  <cp:lastPrinted>2001-09-13T10:59:37Z</cp:lastPrinted>
  <dcterms:modified xsi:type="dcterms:W3CDTF">2017-11-29T22:43:32Z</dcterms:modified>
  <cp:revision>159</cp:revision>
  <dc:subject/>
  <dc:title>1.1   二次根式（1）</dc:title>
</cp:coreProperties>
</file>